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E83-B4EF-403A-9F65-D649A349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1B8-E72F-412B-80DB-04520F6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0E2-3A2F-4E28-8287-6237421A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6C6-24C4-4E44-A50B-EA662917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466C-B6A7-4C63-9A4B-3F7B7277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9A19-5E96-471D-8159-6FB002B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ABB6-FD2F-4317-BCDE-36BC8C6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7E3F-97A1-4D6B-9880-5124E94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C87B-71DD-4256-BC40-FCBEC2B1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A7F-D5BF-4684-9A4E-217127F7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7B6E-FE10-4C28-B970-EAC5D94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46C-A25E-4FFD-A80E-78262B9D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196E-9C81-453B-9231-C0E2866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5443-AD0F-4295-9E62-72C7F94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898E-9AF0-47DA-AA8F-D1A526C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B90-E98B-43DC-96AD-40A8DD7E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10BD-20D3-4422-B4F1-086C54F2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CA4-DA67-40E6-A2D5-E4BA5AA0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E58-892A-42FA-9126-35F2970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B51-BF49-400C-8F8D-CE90907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D18-F069-4E04-B916-046AFB65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CBE-4F7C-40A7-BB3D-C91615F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E9D-C1B6-48FE-9318-D8B4D91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C2D-9265-4139-83C0-7D15565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91FB-9916-4DA1-B236-41732D9F8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16E-78C5-4EAA-90EA-EEE89F3436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otte Danielson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our Domains of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aching Responsibilit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8896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a: Demonstrating Knowledge of Content and Pedag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b: Demonstrating Knowledge of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c: Selecting Instructional Go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d: Demonstrating Knowledge of Resour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e: Designing Coherent Instr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f: Assessing Student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057400"/>
            <a:ext cx="8896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a: Creating an Environment of Respect and Rappor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b: Establishing a Culture for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c: Managing Classroom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d: Managing Student Behavi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e: Organizing Physical Spa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1981080"/>
            <a:ext cx="889632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a: Communicating Clearly and Accurate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b: Using Questioning and Discussion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c: Engaging Students in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d: Providing Feedback to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e: Demonstrating Flexibility and Responsive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2133720"/>
            <a:ext cx="889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a: Reflecting on Teach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b: Maintaining Accurate Recor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c: Communicating with Famil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d: Contributing to the School and Distri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e: Growing and Developing Professional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f: Showing Professionalis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57:56Z</dcterms:created>
  <dc:creator>Registered User</dc:creator>
  <dc:description/>
  <dc:language>en-US</dc:language>
  <cp:lastModifiedBy>Karen Verkler</cp:lastModifiedBy>
  <dcterms:modified xsi:type="dcterms:W3CDTF">2015-04-17T09:31:35Z</dcterms:modified>
  <cp:revision>3</cp:revision>
  <dc:subject/>
  <dc:title>The Four Domains of  Teaching Responsibility</dc:title>
</cp:coreProperties>
</file>